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9A19EB-2C8D-4DF3-BB88-3A956C8493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1D9D8A-3148-4B6A-A803-BD257524AF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771E960-DF80-4C6A-AF47-EDF9CAD0CD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55F892D-4D7E-4072-9639-E8B50254DB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DDD4A4-D9BB-4BA5-A387-AE38667C23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F8ECBF-9E3B-487F-ACA6-A5871EDA9C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006EA3-4543-4A9D-AB41-5F3A81151A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2CB6B0F-F63B-441B-81F4-DC307445FD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5C59EE7-6EB7-448F-B198-FB9938EC60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328634-EAA0-44DD-82C4-875DD132C1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8D4C21-9E9A-40FD-9BB1-F07E2BFE8B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723853-616E-4618-BAFA-88B5626F44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3984-28E0-4A6B-9A67-FD4E19035FB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triangle" w="med"/>
            <a:tailEnd len="med" type="triangle"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triangle" w="med"/>
            <a:tailEnd len="med" type="triangle"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triangle" w="med"/>
            <a:tailEnd len="med" type="triangle"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